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1.png" ContentType="image/png"/>
  <Override PartName="/ppt/media/image3.png" ContentType="image/png"/>
  <Override PartName="/ppt/media/image8.jpeg" ContentType="image/jpeg"/>
  <Override PartName="/ppt/media/image6.jpeg" ContentType="image/jpeg"/>
  <Override PartName="/ppt/media/image4.png" ContentType="image/png"/>
  <Override PartName="/ppt/media/image12.wmf" ContentType="image/x-wmf"/>
  <Override PartName="/ppt/media/image13.png" ContentType="image/png"/>
  <Override PartName="/ppt/media/image7.png" ContentType="image/png"/>
  <Override PartName="/ppt/media/image9.png" ContentType="image/png"/>
  <Override PartName="/ppt/media/image17.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move the slide</a:t>
            </a:r>
            <a:endParaRPr b="1" lang="en-US" sz="4100" spc="-1" strike="noStrike">
              <a:solidFill>
                <a:srgbClr val="4e5b6f"/>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6CE5E-3269-40B7-8867-F17CD1B4D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D2F9-03B4-42D8-8F4B-98F9DC935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27867-5322-4711-896C-52BE73CC6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0AE4B-8EB4-4EFF-A57A-E5F1262C1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57B9E-33A5-4FBB-A106-35A719095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56EE5-C9EB-4700-BC55-2B7206AD7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C52AD-4E3B-4E8E-BB79-D9540F02F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13A7E-42AC-4924-8C84-29C9D8EB5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44222-BEEA-42C0-81B3-78493AFDC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5F719-DBCA-44A0-88AE-01B444EC0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D41A8-0644-41ED-BC85-786029FD3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983A1-6314-4571-99CC-B29B270B7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8B4A0-52B4-432A-B326-58913BCAB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656F4-B4E5-4437-B333-D0FD2E82A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03CE8-6EFE-4BFB-8C09-7C0F87EC5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E25A8-21DD-4DF9-8907-F5E61A4DC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90893-D6D8-4991-BA35-A3C53C35F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185977-9D15-48BC-A8FF-1CA2B9AEB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514D6-CDC7-4470-B58E-D5E32E23DC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3C6D7D-CF13-4D39-8645-3847246899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3A6CA2-2942-4DE6-A1E5-9182A939FD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4F84F-35CB-4BFE-A852-B23D4034B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78E2EE-44C2-4D05-BEFA-36EC9133B2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ABDC45-F7EF-40E8-BC44-91815574BC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81D6E-70A7-4205-9718-49B198F91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26F76F-9746-436C-AE27-C7CDE7E3D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19DF8-9887-494E-BE30-52FCF2A31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6CECFC-FD41-4BA0-A235-1FBC07447C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C3C562-7656-4BB7-B56E-81C16D6142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178DEC-C48C-49F4-B9EF-E8DBE2F004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08E1AE-AB47-4B8B-AAFA-0DD3612CCA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27F4D3-5A4E-4CC7-889F-26372BA9AE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9C73CC-AA57-4961-961A-B276C5880D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2D4EB6-B507-4969-960B-43008A2686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4D91D4-A566-41B0-9D51-F17DBA3A01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5D588-CC36-45F0-A991-F7A9D03B8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39C89D-548B-414D-80B8-A0B565109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503C3A-AE59-4F42-9C7E-05076BF292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EB485B-6A0B-4747-A31E-E5D39A2968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CE42BA-0C4A-4128-8890-C50EE7EB5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EB330-9BF3-47EE-AA1B-CEE6096353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ABC71-C530-42CB-92B2-70D5FFE5D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52B4A4-4F39-4777-9442-E2C239B2D5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E53A70-A728-4359-920B-083914C80A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F5C873-2F6F-4220-9780-FFDADEFBE4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B456F7-FCFC-4352-9C18-1CCD159B70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B3FE7-042C-4EAC-AB86-1D699DF58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09FC25-D7F7-4F27-B70A-A1EFB8BC85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BD63B1-A1CB-4A08-A3CE-17D6C74D43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81C0BC-556E-48BF-B144-8C99DAE827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08A8DB-C4C2-4C1A-8633-509B72BC5B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A430E3-60C6-4C24-AFA5-66B5214907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B74B02-DFB9-4828-A1EC-53B084733C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0A3010-FBC7-489E-B75A-4C63A9F9A3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92A1F5-3DD4-4D80-A661-218C24AB2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A2F7A5-D24D-4094-B575-B7B1660FC7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DD1288-EA07-40B9-86C8-B0C6349CD0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8D9D7-A8C5-4279-8526-6DE62D7F9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7262C8-34D0-4115-A51B-53E2DEF2C0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628941-09DA-4779-955B-2E84E680A5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81338B-BD8B-4A64-BE3E-72CDFFC8C7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F98C7B-2720-4811-8C34-1CF723BBD3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95C31A-3E10-4F53-AC5C-BF830B77CB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BEBA3A-4889-4FA3-8235-B0CA675F69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95A5BB-527E-475B-91CE-7441DCD3F3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C02BE7-1909-40CE-BD3F-A3E103119B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26BFB0-E669-416F-8128-D5AE64E0B0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E074B7-659B-4A45-BEC9-9E59A8D8EC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9970C-B931-4218-B171-A28E8D13A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AD81C5-0B31-4E08-A2B5-AA859FA074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3C514A-9FFB-40B9-A17D-84FC26CCA6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4941A5-1F8A-4860-AA54-D0C876E00F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708B46-A52A-4A74-8904-C0561CB1CB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E5BE2E-7E0D-406F-AE88-8AD5A17EF3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1DDF34-BF77-42CC-9008-2CDDB83B72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CF012C-4CF4-493A-9BF4-59EE30545C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4269A0-5999-4DBA-BA5A-CDA336BE92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D64734-3AC2-4807-A914-9C96FC12FC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5C6F37-B8BD-43AC-8B4C-CC1C2E7AC4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97DB2-1BD7-4505-BEEE-78A9F9A9B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6DB106-22C8-497D-AD06-2E10CE99A1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4232FD-7152-4A71-B8A6-80622AAE45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6E024D-FA56-4A97-A8D4-3E92C369ED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4DB796-07C2-4E11-B595-7CC0B6CE86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C4214F-BE7A-4517-85D8-7DCCFB1B90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BC1BA7-8C4E-4C5E-920B-F40127F046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171147-DDAA-413F-B248-AD61D6E5C6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53AFFA-AD1A-4C1C-8276-8E541B7681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184EFA-7D5D-4FA8-9949-C6F0761E19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434D16-176C-48B7-A6DE-DCCC7B4EF4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23940-B6AF-4023-9247-070E2CC58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5C8C61-7A9F-49F8-A98B-D2730CEC00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472A8C-9E37-4148-A982-2F80C4EE0A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61967D-558E-4D13-8070-272C45563E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7D4831-2235-460D-8C2B-98F2EAD626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4D3611-FA17-4BE6-B756-CAA376221F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AB696E-9B09-4772-A30D-BE59CDD7D7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9EA277-9806-4B62-B3FC-128BBB5289C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30FE-BC14-4FBB-BC44-CC1FF1A4884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4aa400"/>
              </a:gs>
              <a:gs pos="50000">
                <a:srgbClr val="8df24d"/>
              </a:gs>
              <a:gs pos="100000">
                <a:srgbClr val="4aa400"/>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b8e7a1">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48C8-A0CB-4A8E-8022-72DD6AE83A6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2B0E-9DA6-4069-A609-7B332B7FD1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18C7-995D-4E28-9A9C-09423E9150D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667A-D936-41DA-8743-2B578F80B2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E361-D5D7-4E19-823F-A26E7C86EFE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2972-A9CF-4392-B34D-8F9457B71F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695C-0087-44E7-BC1C-92A70806A33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682560" y="1749600"/>
            <a:ext cx="808992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e5b6f"/>
                </a:solidFill>
                <a:latin typeface="Lucida Sans Unicode"/>
              </a:rPr>
              <a:t>Por: Jake Leary</a:t>
            </a:r>
            <a:endParaRPr b="0" lang="en-US" sz="2700" spc="-1" strike="noStrike">
              <a:solidFill>
                <a:srgbClr val="000000"/>
              </a:solidFill>
              <a:latin typeface="Lucida Sans Unicode"/>
            </a:endParaRPr>
          </a:p>
        </p:txBody>
      </p:sp>
      <p:sp>
        <p:nvSpPr>
          <p:cNvPr id="379" name="Text Box 6"/>
          <p:cNvSpPr/>
          <p:nvPr/>
        </p:nvSpPr>
        <p:spPr>
          <a:xfrm>
            <a:off x="3413160" y="1027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0" name="Picture 8" descr="224534-bigthumbnail"/>
          <p:cNvPicPr/>
          <p:nvPr/>
        </p:nvPicPr>
        <p:blipFill>
          <a:blip r:embed="rId2"/>
          <a:stretch/>
        </p:blipFill>
        <p:spPr>
          <a:xfrm>
            <a:off x="0" y="0"/>
            <a:ext cx="9144000" cy="6858000"/>
          </a:xfrm>
          <a:prstGeom prst="rect">
            <a:avLst/>
          </a:prstGeom>
          <a:ln w="0">
            <a:noFill/>
          </a:ln>
        </p:spPr>
      </p:pic>
      <p:sp>
        <p:nvSpPr>
          <p:cNvPr id="381" name="Text Box 9"/>
          <p:cNvSpPr/>
          <p:nvPr/>
        </p:nvSpPr>
        <p:spPr>
          <a:xfrm>
            <a:off x="1523880" y="2590920"/>
            <a:ext cx="6934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pperplate Gothic Bold"/>
              </a:rPr>
              <a:t>Mi viaje a Argentin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Bold"/>
              </a:rPr>
              <a:t>	</a:t>
            </a:r>
            <a:r>
              <a:rPr b="0" lang="en-US" sz="2000" spc="-1" strike="noStrike">
                <a:solidFill>
                  <a:srgbClr val="000000"/>
                </a:solidFill>
                <a:latin typeface="Copperplate Gothic Bold"/>
              </a:rPr>
              <a:t>	</a:t>
            </a:r>
            <a:r>
              <a:rPr b="0" lang="en-US" sz="2000" spc="-1" strike="noStrike">
                <a:solidFill>
                  <a:srgbClr val="000000"/>
                </a:solidFill>
                <a:latin typeface="Copperplate Gothic Bold"/>
              </a:rPr>
              <a:t>	</a:t>
            </a:r>
            <a:r>
              <a:rPr b="0" lang="en-US" sz="2000" spc="-1" strike="noStrike">
                <a:solidFill>
                  <a:srgbClr val="000000"/>
                </a:solidFill>
                <a:latin typeface="Copperplate Gothic Bold"/>
              </a:rPr>
              <a:t>por: Jake Le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ridos famili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s-ES" sz="2700" spc="-1" strike="noStrike">
                <a:solidFill>
                  <a:srgbClr val="000000"/>
                </a:solidFill>
                <a:latin typeface="Lucida Sans Unicode"/>
              </a:rPr>
              <a:t>Hoy me llegó a la Argentina. el clima es frío y con nieve, pero lo que es bueno en mi caso, porque yo voy a Las Leñas para esquiar. Cuando llegué a Las Leñas, me saludó y me revisó in antes de darme cuenta. Estaba listo para ir a las pistas.</a:t>
            </a:r>
            <a:endParaRPr b="0" lang="en-US" sz="2700" spc="-1" strike="noStrike">
              <a:solidFill>
                <a:srgbClr val="000000"/>
              </a:solidFill>
              <a:latin typeface="Lucida Sans Unicode"/>
            </a:endParaRPr>
          </a:p>
        </p:txBody>
      </p:sp>
      <p:pic>
        <p:nvPicPr>
          <p:cNvPr id="383" name="Rectangle 2" descr=""/>
          <p:cNvPicPr/>
          <p:nvPr/>
        </p:nvPicPr>
        <p:blipFill>
          <a:blip r:embed="rId1"/>
          <a:stretch/>
        </p:blipFill>
        <p:spPr>
          <a:xfrm>
            <a:off x="195120" y="268200"/>
            <a:ext cx="8498160" cy="1158840"/>
          </a:xfrm>
          <a:prstGeom prst="rect">
            <a:avLst/>
          </a:prstGeom>
          <a:ln w="0">
            <a:noFill/>
          </a:ln>
        </p:spPr>
      </p:pic>
      <p:pic>
        <p:nvPicPr>
          <p:cNvPr id="384" name="Picture 6" descr=""/>
          <p:cNvPicPr/>
          <p:nvPr/>
        </p:nvPicPr>
        <p:blipFill>
          <a:blip r:embed="rId2"/>
          <a:stretch/>
        </p:blipFill>
        <p:spPr>
          <a:xfrm>
            <a:off x="4419720" y="4114800"/>
            <a:ext cx="396216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	</a:t>
            </a:r>
            <a:r>
              <a:rPr b="0" lang="es-ES" sz="2700" spc="-1" strike="noStrike">
                <a:solidFill>
                  <a:srgbClr val="000000"/>
                </a:solidFill>
                <a:latin typeface="Lucida Sans Unicode"/>
              </a:rPr>
              <a:t>	</a:t>
            </a:r>
            <a:r>
              <a:rPr b="0" lang="es-ES" sz="2700" spc="-1" strike="noStrike">
                <a:solidFill>
                  <a:srgbClr val="000000"/>
                </a:solidFill>
                <a:latin typeface="Lucida Sans Unicode"/>
              </a:rPr>
              <a:t>hoy fue mi primer día en la montaña. La nieve estaba en perfectas condiciones, que era agradable y compacto. Comencé mi día con algunas carreras por el camino intermedio, y luego pasé a las secciones más difíciles. después de esquiar me fui al albergue para cenar. Cuando terminé decidí regresar a mi habitación.</a:t>
            </a:r>
            <a:endParaRPr b="0" lang="en-US" sz="2700" spc="-1" strike="noStrike">
              <a:solidFill>
                <a:srgbClr val="000000"/>
              </a:solidFill>
              <a:latin typeface="Lucida Sans Unicode"/>
            </a:endParaRPr>
          </a:p>
        </p:txBody>
      </p:sp>
      <p:pic>
        <p:nvPicPr>
          <p:cNvPr id="386" name="Title 2" descr=""/>
          <p:cNvPicPr/>
          <p:nvPr/>
        </p:nvPicPr>
        <p:blipFill>
          <a:blip r:embed="rId1"/>
          <a:stretch/>
        </p:blipFill>
        <p:spPr>
          <a:xfrm>
            <a:off x="195120" y="268200"/>
            <a:ext cx="8498160" cy="1158840"/>
          </a:xfrm>
          <a:prstGeom prst="rect">
            <a:avLst/>
          </a:prstGeom>
          <a:ln w="0">
            <a:noFill/>
          </a:ln>
        </p:spPr>
      </p:pic>
      <p:pic>
        <p:nvPicPr>
          <p:cNvPr id="387" name="Picture 2" descr="C:\Users\Leary\AppData\Local\Microsoft\Windows\Temporary Internet Files\Content.IE5\CA6YGX5F\MC900318724[1].wmf"/>
          <p:cNvPicPr/>
          <p:nvPr/>
        </p:nvPicPr>
        <p:blipFill>
          <a:blip r:embed="rId2"/>
          <a:stretch/>
        </p:blipFill>
        <p:spPr>
          <a:xfrm>
            <a:off x="5105520" y="4724280"/>
            <a:ext cx="350496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	</a:t>
            </a:r>
            <a:r>
              <a:rPr b="0" lang="es-ES" sz="2700" spc="-1" strike="noStrike">
                <a:solidFill>
                  <a:srgbClr val="000000"/>
                </a:solidFill>
                <a:latin typeface="Lucida Sans Unicode"/>
              </a:rPr>
              <a:t>	</a:t>
            </a:r>
            <a:r>
              <a:rPr b="0" lang="es-ES" sz="2700" spc="-1" strike="noStrike">
                <a:solidFill>
                  <a:srgbClr val="000000"/>
                </a:solidFill>
                <a:latin typeface="Lucida Sans Unicode"/>
              </a:rPr>
              <a:t>Esta mañana me desperté y estaba muy dolorido de esquí. Así que decidí quetomaría un descanso para el día y hacer algo más. Las personas que trabajan en el vestíbulo del ParqueTemaiken,dijo que era un zoológico cercano y era un gran lugar para relajarse. En el zoológico vi elefantes, tocans, tigres, etc. Era muy agradable también para ver a los animales  que no volvería a ver en un zoológico de Boston.</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195120" y="268200"/>
            <a:ext cx="8498160" cy="1158840"/>
          </a:xfrm>
          <a:prstGeom prst="rect">
            <a:avLst/>
          </a:prstGeom>
          <a:ln w="0">
            <a:noFill/>
          </a:ln>
        </p:spPr>
      </p:pic>
      <p:pic>
        <p:nvPicPr>
          <p:cNvPr id="390" name="Picture 2" descr="C:\Users\Leary\AppData\Local\Microsoft\Windows\Temporary Internet Files\Content.IE5\CA6YGX5F\MC900060306[1].wmf"/>
          <p:cNvPicPr/>
          <p:nvPr/>
        </p:nvPicPr>
        <p:blipFill>
          <a:blip r:embed="rId2"/>
          <a:stretch/>
        </p:blipFill>
        <p:spPr>
          <a:xfrm>
            <a:off x="6095880" y="5181480"/>
            <a:ext cx="2743200" cy="167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21932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s-ES" sz="2400" spc="-1" strike="noStrike">
                <a:solidFill>
                  <a:srgbClr val="000000"/>
                </a:solidFill>
                <a:latin typeface="Lucida Sans Unicode"/>
              </a:rPr>
              <a:t> </a:t>
            </a:r>
            <a:r>
              <a:rPr b="0" lang="es-ES" sz="2400" spc="-1" strike="noStrike">
                <a:solidFill>
                  <a:srgbClr val="000000"/>
                </a:solidFill>
                <a:latin typeface="Lucida Sans Unicode"/>
              </a:rPr>
              <a:t>Me desperté esta mañana y se sentía mucho mejor. Así que me fui al albergue otatado las botas y se puso al telesilla. Mientras que yo estaba subiendo me di cuentaen el otro lado de la montaña había una competencia truco pasando. Me pareció  interesante, así que se dirigieron a él. Las personas que compiten son muy buenas. como yo estaba viendo pensé que si podía hacer nada de trucos, por suerte al final de la </a:t>
            </a:r>
            <a:r>
              <a:rPr b="0" lang="en-US" sz="2400" spc="-1" strike="noStrike">
                <a:solidFill>
                  <a:srgbClr val="000000"/>
                </a:solidFill>
                <a:latin typeface="Lucida Sans Unicode"/>
              </a:rPr>
              <a:t> competición </a:t>
            </a:r>
            <a:r>
              <a:rPr b="0" lang="es-ES" sz="2400" spc="-1" strike="noStrike">
                <a:solidFill>
                  <a:srgbClr val="000000"/>
                </a:solidFill>
                <a:latin typeface="Lucida Sans Unicode"/>
              </a:rPr>
              <a:t> me enteré de uno de los competidores era un instructor en el complejo. Así que hablé con él y programó una lección con él para mañana.</a:t>
            </a:r>
            <a:endParaRPr b="0" lang="en-US" sz="2400" spc="-1" strike="noStrike">
              <a:solidFill>
                <a:srgbClr val="000000"/>
              </a:solidFill>
              <a:latin typeface="Lucida Sans Unicode"/>
            </a:endParaRPr>
          </a:p>
        </p:txBody>
      </p:sp>
      <p:pic>
        <p:nvPicPr>
          <p:cNvPr id="39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s-ES" sz="2100" spc="-1" strike="noStrike">
                <a:solidFill>
                  <a:srgbClr val="000000"/>
                </a:solidFill>
                <a:latin typeface="Lucida Sans Unicode"/>
              </a:rPr>
              <a:t> </a:t>
            </a:r>
            <a:r>
              <a:rPr b="0" lang="es-ES" sz="2100" spc="-1" strike="noStrike">
                <a:solidFill>
                  <a:srgbClr val="000000"/>
                </a:solidFill>
                <a:latin typeface="Lucida Sans Unicode"/>
              </a:rPr>
              <a:t>Hoy fue mi último día en la Argentina, pero también fue el día de mi lección. la lección que se inició en la mañana, pero tenía que ir rápido para que yo pudiera llegar a tiempo al aeropuerto. cuando la clase comenzó el instructor me llevan al parque truco y me mostró cómo hacer un frente flip off de un salto. Al principio me daba miedo de ir fuera de él pero tengo la caída de ella después de un par de veces. tan pronto como se sabía que estaba haciendo volteretas fuera del salto. Cuando llegué a la parte inferior de la montaña que miré mi reloj y me di cuenta que era hora de irse. Me dirigí a mi habitación me agarró maletas y se subió a la nave al lado del aeropuerto. Me divertí mucho en la Argentina.</a:t>
            </a:r>
            <a:br>
              <a:rPr sz="2100"/>
            </a:br>
            <a:r>
              <a:rPr b="0" lang="es-ES" sz="2100" spc="-1" strike="noStrike">
                <a:solidFill>
                  <a:srgbClr val="000000"/>
                </a:solidFill>
                <a:latin typeface="Lucida Sans Unicode"/>
              </a:rPr>
              <a:t>                                 Nos vemos pronto,</a:t>
            </a:r>
            <a:br>
              <a:rPr sz="2100"/>
            </a:br>
            <a:r>
              <a:rPr b="0" lang="es-ES" sz="2100" spc="-1" strike="noStrike">
                <a:solidFill>
                  <a:srgbClr val="000000"/>
                </a:solidFill>
                <a:latin typeface="Lucida Sans Unicode"/>
              </a:rPr>
              <a:t>                                                           Jake                             </a:t>
            </a:r>
            <a:r>
              <a:rPr b="0" lang="es-ES" sz="2100" spc="-1" strike="noStrike">
                <a:solidFill>
                  <a:srgbClr val="000000"/>
                </a:solidFill>
                <a:latin typeface="Lucida Sans Unicode"/>
              </a:rPr>
              <a:t>	</a:t>
            </a:r>
            <a:r>
              <a:rPr b="0" lang="es-ES" sz="2100" spc="-1" strike="noStrike">
                <a:solidFill>
                  <a:srgbClr val="000000"/>
                </a:solidFill>
                <a:latin typeface="Lucida Sans Unicode"/>
              </a:rPr>
              <a:t>	</a:t>
            </a:r>
            <a:r>
              <a:rPr b="0" lang="es-ES" sz="2100" spc="-1" strike="noStrike">
                <a:solidFill>
                  <a:srgbClr val="000000"/>
                </a:solidFill>
                <a:latin typeface="Lucida Sans Unicode"/>
              </a:rPr>
              <a:t>	</a:t>
            </a:r>
            <a:r>
              <a:rPr b="0" lang="es-ES" sz="2100" spc="-1" strike="noStrike">
                <a:solidFill>
                  <a:srgbClr val="000000"/>
                </a:solidFill>
                <a:latin typeface="Lucida Sans Unicode"/>
              </a:rPr>
              <a:t>	</a:t>
            </a:r>
            <a:r>
              <a:rPr b="0" lang="es-ES" sz="2100" spc="-1" strike="noStrike">
                <a:solidFill>
                  <a:srgbClr val="000000"/>
                </a:solidFill>
                <a:latin typeface="Lucida Sans Unicode"/>
              </a:rPr>
              <a:t>	</a:t>
            </a:r>
            <a:r>
              <a:rPr b="0" lang="es-ES" sz="2100" spc="-1" strike="noStrike">
                <a:solidFill>
                  <a:srgbClr val="000000"/>
                </a:solidFill>
                <a:latin typeface="Lucida Sans Unicode"/>
              </a:rPr>
              <a:t>	</a:t>
            </a:r>
            <a:r>
              <a:rPr b="0" lang="es-ES" sz="2100" spc="-1" strike="noStrike">
                <a:solidFill>
                  <a:srgbClr val="000000"/>
                </a:solidFill>
                <a:latin typeface="Lucida Sans Unicode"/>
              </a:rPr>
              <a:t> </a:t>
            </a:r>
            <a:endParaRPr b="0" lang="en-US" sz="2100" spc="-1" strike="noStrike">
              <a:solidFill>
                <a:srgbClr val="000000"/>
              </a:solidFill>
              <a:latin typeface="Lucida Sans Unicode"/>
            </a:endParaRPr>
          </a:p>
        </p:txBody>
      </p:sp>
      <p:pic>
        <p:nvPicPr>
          <p:cNvPr id="394" name="Title 2" descr=""/>
          <p:cNvPicPr/>
          <p:nvPr/>
        </p:nvPicPr>
        <p:blipFill>
          <a:blip r:embed="rId1"/>
          <a:stretch/>
        </p:blipFill>
        <p:spPr>
          <a:xfrm>
            <a:off x="195120" y="268200"/>
            <a:ext cx="8498160" cy="1158840"/>
          </a:xfrm>
          <a:prstGeom prst="rect">
            <a:avLst/>
          </a:prstGeom>
          <a:ln w="0">
            <a:noFill/>
          </a:ln>
        </p:spPr>
      </p:pic>
      <p:pic>
        <p:nvPicPr>
          <p:cNvPr id="395" name="Picture 2" descr="C:\Users\Leary\AppData\Local\Microsoft\Windows\Temporary Internet Files\Content.IE5\C37IWEY6\MC900089378[1].wmf"/>
          <p:cNvPicPr/>
          <p:nvPr/>
        </p:nvPicPr>
        <p:blipFill>
          <a:blip r:embed="rId2"/>
          <a:stretch/>
        </p:blipFill>
        <p:spPr>
          <a:xfrm>
            <a:off x="6019920" y="4952880"/>
            <a:ext cx="2743200" cy="174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4:28:46Z</dcterms:created>
  <dc:creator>learyjoh</dc:creator>
  <dc:description/>
  <dc:language>en-US</dc:language>
  <cp:lastModifiedBy>Leary</cp:lastModifiedBy>
  <dcterms:modified xsi:type="dcterms:W3CDTF">2011-12-05T23:29:12Z</dcterms:modified>
  <cp:revision>23</cp:revision>
  <dc:subject/>
  <dc:title>Mi viaje a Argentina</dc:title>
</cp:coreProperties>
</file>